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010592"/>
        <c:axId val="62771899"/>
      </c:barChart>
      <c:catAx>
        <c:axId val="700105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71899"/>
        <c:crosses val="autoZero"/>
        <c:auto val="1"/>
        <c:lblAlgn val="ctr"/>
        <c:lblOffset val="100"/>
        <c:noMultiLvlLbl val="0"/>
      </c:catAx>
      <c:valAx>
        <c:axId val="627718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105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CDD6-6C59-451A-8098-881F1349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AA3D-A8EF-4FC4-A578-1E686D91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3E60-4A90-4E34-87CE-D69DE27B0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DAF9-BB4C-4BC1-9853-326C10C5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C517-4CBF-4EC5-B4AA-BF286F11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FB1A-22EC-409C-8E83-A7138CD5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98AB-8739-4C25-BAF0-771B6A3C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008B-31A4-47B4-A624-839763B9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1382-C1BC-4ED4-B949-251965BC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3A14-537E-4F05-A100-A841008C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4818-CC22-45A9-9D3C-CC702FF5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3244-6FF5-45E9-B6AD-EA4265FA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E72DE-E4B6-4AFC-B32F-D32288DAC1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